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B838-83EC-4F3F-821F-3F993C53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223-D988-4596-A368-0BDA1F98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FE1-FB9D-4027-BD3E-58B51F2D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7FE-6C3B-420A-827E-09C639BD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1811-226C-4466-AF1E-C6BEA93A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B570-A0DD-40A4-BD5E-876BE308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1D70-7471-42C0-9836-F9BA2F72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3CC3-16B1-4197-9BE3-5B4FE202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333B-D2FC-4A62-987F-4216C18F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99E0-27B0-4AEC-9403-EB5DEB48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2B63-B8E8-4301-B005-297FF167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A1D3-8C3A-4A93-BCE3-CED7A115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F8F4-F62F-4A58-8D39-45852691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3BEF-C7B4-46DE-8C6D-516BEA33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2D5B-4D6E-472E-A76D-B4E9F9E8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4EFC-2FDC-432B-A02D-285C76C2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5E20-7DE5-413B-A23E-FF0D301D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34D9B-248E-463B-A16D-164D0F9F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E7327-952C-4F5B-83A6-995CCE2D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C57A7-4DE3-4EEF-9986-8B385AB7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EFFD1-2248-45AC-B49B-9AFB9E43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47C67-F882-4EBE-9654-B63C98A2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329-2095-4B06-B3B8-5EC9E94D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E2FBC-8A66-4ACB-BBF3-9C78C46B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1254B-73FD-434D-BEE7-A629170C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8B0C2-3ABA-49B6-8D46-6214D857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0B186-D643-4D31-8CD3-C81D485F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48532-CB77-4D6B-94AB-1187FC42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4FF0C-DC59-4974-9F49-1AD24451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2C515-C024-4CED-908D-4A1AE7FD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D7BC4-DE5C-47CC-A9A5-662FE307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2357F-5C5C-4147-86F4-DFDBBA99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60214-6F7B-4543-B96E-8FD8D858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528-103B-4B24-9F4D-59779571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EA122-13B3-4D92-B30E-C2496D9B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CBB97-44A2-4EC0-815C-3C646AEE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09F51-3E5D-42EC-BC81-A716E1D2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408F0-5A57-4277-8E13-58A9A816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BFF76-FE73-419F-BBBA-B46FA5A5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07941-5BCE-47CB-A903-7D177F1B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E70C6-DC16-4752-994C-43C7F9E6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672C4-3F2D-40F1-A986-5EECC0E4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900C5-E849-49AA-9571-557CA794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8D8BF5-F995-4E69-9BE5-AEB5AAB0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B53A-FAFA-4B4D-97A8-C938899E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9596A-041A-4769-9CDF-01A258E7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7E1CAB-C523-4328-92FF-8B78E87F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C5FC50-D6BA-405A-A1D9-1263DC9C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EB4162-BA9C-4381-B57F-7A70D200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4A02F0-AF26-4CDE-8C6F-9C0D9FB1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55BD5C-0ABF-4E86-B118-D9F185F6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514DF-5B56-449C-99CC-518F066D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E3FD7-DE8E-4CD8-8072-14C5E8F1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40CA75-5B0F-44F0-86A8-41AB677F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6A44FE-2BDE-43E7-9F61-F5E47B5D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748B-5B36-4724-A190-53F10AA0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4EF985-BDF3-4EA3-A479-E7405A08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5CA9E2-9B4D-4D59-973E-00A63927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9B2B83-CC84-4D2C-A5C4-9B22BF5A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6FE78C-3F49-4E29-8FB2-94D90AA3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7DAE58-3EE1-4162-BADB-C0CA0869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F9AC0C-689C-4FE3-9B66-8A92B72A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94C9C6-095B-453D-9A88-F938C87E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3C6920-208A-4A98-9345-4D85A269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7FE00D-0A82-42CF-88B9-4D85EE11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8D2EE6-0531-40C9-82CE-A1C9516A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3C7-8340-4EFC-9912-A0F300D2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C2821B-A27F-4420-9A0E-1F6A5F80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FA4F9A-33C9-4DD8-B6A8-A4DFE6DD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7EC3BA-3E92-4160-8212-72B1D5D1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F2366-8339-4FE3-A62A-A5951C89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A5928B-9270-4318-9746-E1422B86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EB732D-88FB-4A7E-B1F8-C794A05D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397789-8C05-4075-B14B-758404F7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383E04-8DD0-4259-AF1C-D570BF3D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0476A5-1CFB-407B-80A9-C1A02203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3ED16-D7C6-486E-AFD8-91F695AE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57DC-285B-4744-BFDB-66BCDB3D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F74A16-E676-4788-8E13-03BAC3FA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098091-2FD5-4DCE-B9B5-18AEA2E6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D79388-B876-4717-ABE9-5F765993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3A8637-2BC2-4612-9221-470E8F07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ABF328-17F7-41FC-89D5-CD89F203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C1E0-A73C-423E-8043-0F204807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9261-4D38-434F-B6E8-88D3A5DE8FDC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nettore 1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ttango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E8E2-4F93-4FD0-BC34-0C82F8523C01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2EC2-39B6-4A6A-8186-AF85D6D6CCA0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ttango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nettore 1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EB6B-C686-4599-831B-22FF9AF024E4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E687-D5D6-4F93-BE7C-EE8AA14D3A91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nettore 1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nettore 1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nettore 1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ttango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nettore 1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5850-7A3C-43BC-AEE7-1DD9EC425FC2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nettore 1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ttango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nettore 1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nettore 1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nettore 1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1AFE-BB11-428A-BD29-6937831CB158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4e5b6f"/>
                </a:solidFill>
                <a:latin typeface="Century Schoolbook"/>
              </a:rPr>
              <a:t>“</a:t>
            </a:r>
            <a:r>
              <a:rPr b="1" lang="es-ES" sz="6000" spc="-1" strike="noStrike">
                <a:solidFill>
                  <a:srgbClr val="4e5b6f"/>
                </a:solidFill>
                <a:latin typeface="Century Schoolbook"/>
              </a:rPr>
              <a:t>YO ME PARTO”</a:t>
            </a:r>
            <a:endParaRPr b="0" lang="en-US" sz="6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2852280"/>
            <a:ext cx="617220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5b6f"/>
                </a:solidFill>
                <a:latin typeface="Century Schoolbook"/>
              </a:rPr>
              <a:t>EL LENGUAJE DEL HUM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e5b6f"/>
                </a:solidFill>
                <a:latin typeface="Century Schoolbook"/>
              </a:rPr>
              <a:t>Mª Eugenia Brime Bertrand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e5b6f"/>
                </a:solidFill>
                <a:latin typeface="Century Schoolbook"/>
              </a:rPr>
              <a:t>Università degli Studi di Napoli Federico II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Immagine 3" descr="ChisteForges2.jpg"/>
          <p:cNvPicPr/>
          <p:nvPr/>
        </p:nvPicPr>
        <p:blipFill>
          <a:blip r:embed="rId1"/>
          <a:stretch/>
        </p:blipFill>
        <p:spPr>
          <a:xfrm>
            <a:off x="611280" y="3141720"/>
            <a:ext cx="38163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DEFINICIÓN DE HUMOR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tretch/>
        </p:blipFill>
        <p:spPr>
          <a:xfrm>
            <a:off x="2771640" y="2852640"/>
            <a:ext cx="5256360" cy="3745080"/>
          </a:xfrm>
          <a:prstGeom prst="rect">
            <a:avLst/>
          </a:prstGeom>
          <a:ln w="0">
            <a:noFill/>
          </a:ln>
        </p:spPr>
      </p:pic>
      <p:sp>
        <p:nvSpPr>
          <p:cNvPr id="356" name="PubOvalCallout"/>
          <p:cNvSpPr/>
          <p:nvPr/>
        </p:nvSpPr>
        <p:spPr>
          <a:xfrm>
            <a:off x="250920" y="1844640"/>
            <a:ext cx="4681440" cy="28796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entury Schoolbook"/>
              </a:rPr>
              <a:t>La palabra humor proviene de la palabra latina </a:t>
            </a:r>
            <a:r>
              <a:rPr b="0" i="1" lang="es-ES" sz="1000" spc="-1" strike="noStrike">
                <a:solidFill>
                  <a:srgbClr val="000000"/>
                </a:solidFill>
                <a:latin typeface="Century Schoolbook"/>
              </a:rPr>
              <a:t>umor</a:t>
            </a:r>
            <a:r>
              <a:rPr b="0" lang="es-ES" sz="1000" spc="-1" strike="noStrike">
                <a:solidFill>
                  <a:srgbClr val="000000"/>
                </a:solidFill>
                <a:latin typeface="Century Schoolbook"/>
              </a:rPr>
              <a:t> y del vocablo medieval humor, siendo ambos términos médicos que significan disposición biológica o temperamento. El humor se define comúnmente, y no sólo en psicología, como estado de ánimo, disposición del espíritu o del carácter. Es por tanto, un estado emocional o afectivo de relativa larga duración que determina en un individuo el realizar ciertas asociaciones mentales con cosas agradables o desagradables, según  el humor que posea un </a:t>
            </a:r>
            <a:r>
              <a:rPr b="0" lang="es-E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Century Schoolbook"/>
              </a:rPr>
              <a:t>momento dado.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382360" y="1497240"/>
            <a:ext cx="2765160" cy="1527120"/>
          </a:xfrm>
          <a:prstGeom prst="rect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Century Schoolbook"/>
              </a:rPr>
              <a:t>Humor también es la disposición para hacer algo o el estado afectivo que se mantiene por cierto tiempo. Se habla de buen humor cuando existe una propensión a mostrarse alegre y de mal humor cuando la actitud es negativa o irritada.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Rettangolo 10"/>
          <p:cNvSpPr/>
          <p:nvPr/>
        </p:nvSpPr>
        <p:spPr>
          <a:xfrm>
            <a:off x="3492360" y="4437000"/>
            <a:ext cx="403236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entury Schoolbook"/>
              </a:rPr>
              <a:t>Genio, carácter, condición e índole denotan un complejo de cualidades permanentes en una pesona. El humor y el temple denotan una disposición de ánimo que puede ser permanente o variable. Un hombre de genio o carácter bondadoso y apacible puede estar un día de mal humor o de mal temple, y sorprendernos con asperezas que contradicen su índole o condición; o bien, una persona intratable nos acoge con amabilidad inesperada en un momento de buen humor.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TIPOS DE HUMOR I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UMOR VERBAL</a:t>
            </a: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:  la ironía, el sarcasmo, la hipérbole, el anticlímax ("Dios ha muerto, Nietzsche ha muerto y yo no gozo de buena salud", Woody Allen), el enigma o definición incompleta o elíptica, la antítesis, el oxímoron, la atenuación o litotes, la alusión, el non sequitur, la silepsis, el juego de palabras, la sátira, la parodia o la paradoja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UMOR DE SITUACIÓN: </a:t>
            </a: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gestos, posturas, caídas, resbalones, etc.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TIPOS DE HUMOR II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HUMOR ABSURDO: </a:t>
            </a:r>
            <a:r>
              <a:rPr b="0" lang="es-ES" sz="1300" spc="-1" strike="noStrike">
                <a:solidFill>
                  <a:srgbClr val="000000"/>
                </a:solidFill>
                <a:latin typeface="Century Schoolbook"/>
              </a:rPr>
              <a:t>se vale de las situaciones disparatadas o incoherentes para generar la risa en el público, su comicidad se basa en la irracionalidad. Es un humor totalmente alejado de la realidad pero que a la vez nos sumerge en lo esencial de ella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HUMOR INTELIGENTE: </a:t>
            </a: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va dirigido a un público particularmente preparado visual e intelectualmente, con una sensibilidad y experiencia vital determinada que le da capacidad para realizar todo el proceso propuesto desde las viñetas. Debe, pues, existir una complicidad entre autor y espectador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HUMOR BLANCO: </a:t>
            </a:r>
            <a:r>
              <a:rPr b="0" lang="es-ES" sz="1300" spc="-1" strike="noStrike">
                <a:solidFill>
                  <a:srgbClr val="000000"/>
                </a:solidFill>
                <a:latin typeface="Century Schoolbook"/>
              </a:rPr>
              <a:t>tipo de humor que no contiene connotaciones ni denotaciones negativas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HUMOR NEGRO: </a:t>
            </a:r>
            <a:r>
              <a:rPr b="0" lang="es-ES" sz="1300" spc="-1" strike="noStrike">
                <a:solidFill>
                  <a:srgbClr val="000000"/>
                </a:solidFill>
                <a:latin typeface="Century Schoolbook"/>
              </a:rPr>
              <a:t>se ejerce a propósito de cosas que suscitarían, contempladas desde otra perspectiva, piedad, terror, lástima o emociones parecidas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HUMOR VERDE: </a:t>
            </a:r>
            <a:r>
              <a:rPr b="0" lang="es-ES" sz="1300" spc="-1" strike="noStrike">
                <a:solidFill>
                  <a:srgbClr val="000000"/>
                </a:solidFill>
                <a:latin typeface="Century Schoolbook"/>
              </a:rPr>
              <a:t>basado en elementos de mal gusto y pícaro, como lenguaje soez, sexo, escatología, enfermedades repugnantes. Forma parte de la baja cultura, lo cual no quita que personas de todas las clases sociales puedan disfrutar y realizar este tipo de humor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HUMOR GRÁFICO: </a:t>
            </a:r>
            <a:r>
              <a:rPr b="0" lang="es-ES" sz="1300" spc="-1" strike="noStrike">
                <a:solidFill>
                  <a:srgbClr val="000000"/>
                </a:solidFill>
                <a:latin typeface="Century Schoolbook"/>
              </a:rPr>
              <a:t>gama diversa de obras gráficas realizadas para la prensa, desde chistes de una sola viñeta y caricaturas hasta verdaderas historietas, tiras cómicas e incluso planchas enteras. Todas abundan en la sátira de la actualidad política y social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¿QUÉ OPINAS?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000" y="21337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“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sentido del humor es la capacidad que tiene uno de reírse de sus propias imperfeccione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risa es asunto de gente seri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humor, la risa es la mayor prueba de inteligencia del ser human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 más fácil hacer llorar que hacer reír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modo cómo se ríe un pueblo es el mejor índice de su cultur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¿CÓMO SE CREA?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Cuáles son los ingredientes idóneos para conseguir que tú te rí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57625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9:26:24Z</dcterms:created>
  <dc:creator>Eugenia</dc:creator>
  <dc:description/>
  <dc:language>en-US</dc:language>
  <cp:lastModifiedBy>madrelingua</cp:lastModifiedBy>
  <dcterms:modified xsi:type="dcterms:W3CDTF">2012-03-19T09:04:04Z</dcterms:modified>
  <cp:revision>50</cp:revision>
  <dc:subject/>
  <dc:title>Diapositiva 1</dc:title>
</cp:coreProperties>
</file>